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3C5-99AA-4493-BE1B-E421775A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B50-A1F9-4D28-B5BD-A0B1081A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6DD-E776-4787-BC00-EF43D574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B7E-4439-49A7-B387-D590DA05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7F1-A8F9-43D3-965F-B7904171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560-8688-46C8-A901-177C7CA4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24E-2068-4823-A30A-4789129E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349-AA29-4E86-98BA-297F8993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3B7-4236-4A7C-AE28-5F2C8FA0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0D0-E640-4842-9687-26DD1E06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592-86B4-46F2-A8CA-C7A295B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C67-BF1E-4DE2-8AB2-6BDF23F8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27C9-A085-48D3-8D7B-7ABD3E33855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gura 1: Le dimensioni de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417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AFF-8695-4657-94D6-7389961D90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detta dell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fficienza inter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studia i processi aziendali con l’obiettivo di  individuare quell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la soddisfazione del cliente e dell’azion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nov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analizza i processi aziendali per assicurare all’azienda la capacità di creare valore costantemente nel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 del cli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(efficacia), analizza le esigenze del cliente al fine di poterle meglio soddis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fficienza ester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mira al conseguimento dei migliori risultati economici e monetari al fine di soddisfare le aspettative de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4A1-F7E7-452F-995B-EE39DE2FCF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quattro prospettive in oggetto sono strettamente integrate e possono essere lette a sistema, in quanto creano una struttura chiara e quantitativamente coerente per indirizzare i piani operativi di ogni unità funzionale verso gli obiettivi globali d’az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[1.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042920" y="3645000"/>
                <a:ext cx="2470320" cy="27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M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DFC-69F0-48C4-B144-B5C138781A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41:14Z</dcterms:created>
  <dc:creator>Pc</dc:creator>
  <dc:description/>
  <dc:language>en-US</dc:language>
  <cp:lastModifiedBy>Pc</cp:lastModifiedBy>
  <dcterms:modified xsi:type="dcterms:W3CDTF">2012-05-17T16:00:34Z</dcterms:modified>
  <cp:revision>101</cp:revision>
  <dc:subject/>
  <dc:title>Presentazione di PowerPoint</dc:title>
</cp:coreProperties>
</file>