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3E3-C95D-4F1E-B698-6E957478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E54-C79E-441C-B5D1-184DEFC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E76-FD49-40E2-8830-935BBE3B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D5A-459D-4BB8-B7C9-CFED8407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324-7667-4FC2-AD98-052EB1F5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586-B82B-493A-B45F-61AE983A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358-5773-49A3-B02A-7472C98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1C7-E846-446D-9FAF-F0528824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4CA-3B8C-4BFA-BF24-3F54266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379-E36A-46F6-BA20-49D6ED1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BB2-01E0-4050-A7CE-78F220F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E48-38C4-43BB-858B-A933BDA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B9B-A047-4A3F-875D-CB1AAD63D6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gura 1: Le dimensioni d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417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03D-7F2D-4E92-B464-3D9F2DF799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detta dell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fficienza inter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studia i processi aziendali con l’obiettivo di  individuare quell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la soddisfazione del cliente e dell’azion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no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analizza i processi aziendali per assicurare all’azienda la capacità di creare valore costantemente nel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del cli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(efficacia), analizza le esigenze del cliente al fine di poterle meglio soddis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fficienza ester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mira al conseguimento dei migliori risultati economici e monetari al fine di soddisfare le aspettative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51A-7B1D-4101-A895-0B4EEEDCA6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quattro prospettive in oggetto sono strettamente integrate e possono essere lette a sistema, in quanto creano una struttura chiara e quantitativamente coerente per indirizzare i piani operativi di ogni unità funzionale verso gli obiettivi globali d’az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[1.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42920" y="3645000"/>
                <a:ext cx="247032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AF4-05E3-4E10-95E8-4E55370AF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41:14Z</dcterms:created>
  <dc:creator>Pc</dc:creator>
  <dc:description/>
  <dc:language>en-US</dc:language>
  <cp:lastModifiedBy>Pc</cp:lastModifiedBy>
  <dcterms:modified xsi:type="dcterms:W3CDTF">2012-05-17T16:00:34Z</dcterms:modified>
  <cp:revision>101</cp:revision>
  <dc:subject/>
  <dc:title>Presentazione di PowerPoint</dc:title>
</cp:coreProperties>
</file>