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54CE-2267-4961-9355-1B46A38D6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9DB0-9C4E-4A1A-94AD-DD3FA68C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B034-C9FA-4B7E-BEB6-1C6B58051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4D8B-8B8E-47F9-9DDE-E6F8396AC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1EB5-3F9A-4364-AE92-084C9FDC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7434-C834-4524-B983-053B556F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6B5D-6122-481E-8D34-C522449F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D7F8-AD5E-4387-8311-083F1549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6DDB-5080-4376-9D3D-3A102DF1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D498-63E7-435C-B013-988C5CE2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1DD0-9DA6-4C7E-9BC7-22421A39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6F50-0484-4422-A6F9-78FF0EEA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E3D5-6247-4B15-8AAB-3FABE7B0FDA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400" spc="-1" strike="noStrike">
                <a:solidFill>
                  <a:srgbClr val="000000"/>
                </a:solidFill>
                <a:latin typeface="Arial"/>
              </a:rPr>
              <a:t>Balanced Scorecard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558972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igura 1: Le dimensioni del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Balanced Scorecar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8209080" cy="4175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E84E-9200-4BC9-9D0A-9A79B5848AE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400" spc="-1" strike="noStrike">
                <a:solidFill>
                  <a:srgbClr val="000000"/>
                </a:solidFill>
                <a:latin typeface="Arial"/>
              </a:rPr>
              <a:t>Balanced Scorecard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prospettiva detta della “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fficienza intern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”, studia i processi aziendali con l’obiettivo di  individuare quelli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cor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per la soddisfazione del cliente e dell’azioni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prospettiva “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nnovaz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”, analizza i processi aziendali per assicurare all’azienda la capacità di creare valore costantemente nel te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prospettiva “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nalisi del client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” (efficacia), analizza le esigenze del cliente al fine di poterle meglio soddisf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prospettiva “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fficienza estern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”, mira al conseguimento dei migliori risultati economici e monetari al fine di soddisfare le aspettative del cl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C5AD-58C5-4857-9C7B-3235508AFD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400" spc="-1" strike="noStrike">
                <a:solidFill>
                  <a:srgbClr val="000000"/>
                </a:solidFill>
                <a:latin typeface="Arial"/>
              </a:rPr>
              <a:t>Balanced Scorecard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e quattro prospettive in oggetto sono strettamente integrate e possono essere lette a sistema, in quanto creano una struttura chiara e quantitativamente coerente per indirizzare i piani operativi di ogni unità funzionale verso gli obiettivi globali d’azien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[1.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042920" y="3645000"/>
                <a:ext cx="2470320" cy="27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MB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A462-059A-4C37-9889-4154A7B3C6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10:41:14Z</dcterms:created>
  <dc:creator>Pc</dc:creator>
  <dc:description/>
  <dc:language>en-US</dc:language>
  <cp:lastModifiedBy>Pc</cp:lastModifiedBy>
  <dcterms:modified xsi:type="dcterms:W3CDTF">2012-05-17T16:00:34Z</dcterms:modified>
  <cp:revision>101</cp:revision>
  <dc:subject/>
  <dc:title>Presentazione di PowerPoint</dc:title>
</cp:coreProperties>
</file>